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032-5747-4C65-9031-7E2D588E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49A-5B2D-40DC-A7E6-DD23066B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65B-EA5E-4BB0-BC7A-FCED469B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54F-EBD5-496F-BCB5-E7C9576C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255-1DAB-430F-85DD-BDCA6E79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4D2-A461-4817-BAFC-B8B2AAB7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D13-89BD-473B-9A18-4DFB8E74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D25-5832-4E2C-8C41-E3D2EB4D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75A-64CB-41E7-A4A8-D3BCEC07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4A7-1A00-44B4-93BA-C71CBA82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499-967C-4E1C-B049-ACBB4C5C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1F3-5D1F-4081-AD33-C138857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BEB3-9876-4201-85CF-E5105A802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                                         PORTOBELLO                               PRESTWICK  RINK                               PRESTWICK                               SHETLAND                                    STIR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NEHAVEN                             STONEHAVEN                   STONEHAVEN  MILLENNIUM                     TEVIOTDALE                                         THISTLE                                    TURRI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0520" y="260280"/>
            <a:ext cx="1225440" cy="117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7324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72888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168880" y="3333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77240" y="26028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08880" y="40464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8880" y="1700280"/>
            <a:ext cx="148104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728880" y="2133720"/>
            <a:ext cx="1024200" cy="106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097600" y="1989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8121600" y="2060640"/>
            <a:ext cx="1044720" cy="10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31616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2000160" y="350028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3584520" y="364500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6824520" y="36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8193240" y="3500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488880" y="5229360"/>
            <a:ext cx="1243080" cy="139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WEEDBANK                            WEST  LOTHIAN                              WEST  LOTHIAN                            WEST  LOTHIAN  25TH                      WEST  OF  SCOTLAND         WEST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6753240" y="213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5240160" y="3645000"/>
            <a:ext cx="1038240" cy="103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HITEINCH                             SCOTTISH  INDOOR  B.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2144880" y="213372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73240" y="5373720"/>
            <a:ext cx="1170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21:59Z</dcterms:created>
  <dc:creator>JOHN YOUNG</dc:creator>
  <dc:description/>
  <dc:language>en-US</dc:language>
  <cp:lastModifiedBy>JY</cp:lastModifiedBy>
  <dcterms:modified xsi:type="dcterms:W3CDTF">2007-02-05T19:37:21Z</dcterms:modified>
  <cp:revision>11</cp:revision>
  <dc:subject/>
  <dc:title>PowerPoint Presentation</dc:title>
</cp:coreProperties>
</file>